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8.jpeg" ContentType="image/jpeg"/>
  <Override PartName="/ppt/media/whoosh.wav" ContentType="audio/x-wav"/>
  <Override PartName="/ppt/media/image7.png" ContentType="image/png"/>
  <Override PartName="/ppt/media/image1.jpeg" ContentType="image/jpeg"/>
  <Override PartName="/ppt/media/image4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projctor.wav" ContentType="audio/x-wav"/>
  <Override PartName="/ppt/media/image5.gif" ContentType="image/gif"/>
  <Override PartName="/ppt/media/image13.png" ContentType="image/png"/>
  <Override PartName="/ppt/media/image12.png" ContentType="image/png"/>
  <Override PartName="/ppt/media/image3.jpeg" ContentType="image/jpeg"/>
  <Override PartName="/ppt/media/image15.png" ContentType="image/pn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75F-4AFE-473D-A00C-C5E99C51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F78-141A-4BF1-8F4F-1E89284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280-EA83-440B-9726-A1262588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EB4-1318-42FB-97D8-9C141BC6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E396-660A-4F4C-9A52-B8A73CF0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1EEE-7BA5-4B9E-8332-DBF9BC9A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476-B61D-43E4-B33B-AE0FC6F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95CC-A3F0-4C9A-B0F3-8DBD5FD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D74-82D2-4A3F-947B-FC4F4C4F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738-DC05-48AC-BE33-65213D84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2881-502F-486A-A012-5D0C867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ED2-F725-4939-A87D-EA051B90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3CFB-AC31-42F4-8244-06597B7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7F43-3E9F-4B8C-A121-2D10096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49C2-3238-4288-825E-37CDC0F4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4639-C961-4810-8F87-7B4C3E12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2D1C-D16F-43B6-B9E2-019F8BD5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3D6-8B85-4D90-9B45-23DFB0B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365-4FC4-4059-B165-9840A5B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82A-0EEF-47C8-BAE4-172C58E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5EA-99AD-4638-878C-BA6A5C22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267-D933-4116-B543-2C476D6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47F-9006-490D-AC6E-C01813F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427-A864-4DA3-9A94-9B897D7B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50FB-4AA1-4523-98A1-6C5E041332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27428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82A-EE52-4148-A5D3-8B81C22B02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1844640"/>
            <a:ext cx="9145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sten and number the letters you hear [1-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听录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按听到的顺序给下列字母编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1-8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1080" y="3357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53080" y="32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6160" y="32130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29800" y="3068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1080" y="4508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3080" y="4508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3440" y="44370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45440" y="44370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213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619280" y="1844640"/>
            <a:ext cx="6192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eriod2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1"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50920" y="0"/>
            <a:ext cx="5002200" cy="1517760"/>
          </a:xfrm>
          <a:prstGeom prst="wedgeEllipseCallout">
            <a:avLst>
              <a:gd name="adj1" fmla="val 157"/>
              <a:gd name="adj2" fmla="val 82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morning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el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197000"/>
            <a:ext cx="2881440" cy="969840"/>
          </a:xfrm>
          <a:prstGeom prst="wedgeEllipseCallout">
            <a:avLst>
              <a:gd name="adj1" fmla="val -8069"/>
              <a:gd name="adj2" fmla="val 69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i, Bob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989000"/>
            <a:ext cx="5148360" cy="1511280"/>
          </a:xfrm>
          <a:prstGeom prst="wedgeEllipseCallout">
            <a:avLst>
              <a:gd name="adj1" fmla="val -18916"/>
              <a:gd name="adj2" fmla="val 70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mo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lic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5157720"/>
            <a:ext cx="4824360" cy="1513080"/>
          </a:xfrm>
          <a:prstGeom prst="wedgeEllipseCallout">
            <a:avLst>
              <a:gd name="adj1" fmla="val -9328"/>
              <a:gd name="adj2" fmla="val -101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morning, Cindy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149720"/>
            <a:ext cx="2916360" cy="1295280"/>
          </a:xfrm>
          <a:prstGeom prst="wedgeRectCallout">
            <a:avLst>
              <a:gd name="adj1" fmla="val -20060"/>
              <a:gd name="adj2" fmla="val -84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ello,Fran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ello, Er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5645160"/>
            <a:ext cx="3529080" cy="1212840"/>
          </a:xfrm>
          <a:prstGeom prst="wedgeRectCallout">
            <a:avLst>
              <a:gd name="adj1" fmla="val -35333"/>
              <a:gd name="adj2" fmla="val -46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mor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al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80880" y="2209680"/>
          <a:ext cx="16858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09680"/>
                    <a:ext cx="1685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19520" y="1447920"/>
            <a:ext cx="2895480" cy="1143000"/>
          </a:xfrm>
          <a:prstGeom prst="wedgeEllipseCallout">
            <a:avLst>
              <a:gd name="adj1" fmla="val -83662"/>
              <a:gd name="adj2" fmla="val 934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175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311"/>
                </a:solidFill>
                <a:latin typeface="Times New Roman"/>
                <a:ea typeface="宋体"/>
              </a:rPr>
              <a:t>Hi,D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934320" y="2743200"/>
          <a:ext cx="2209680" cy="206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2743200"/>
                    <a:ext cx="220968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62520" y="2971800"/>
            <a:ext cx="2895480" cy="1219320"/>
          </a:xfrm>
          <a:prstGeom prst="wedgeEllipseCallout">
            <a:avLst>
              <a:gd name="adj1" fmla="val 80810"/>
              <a:gd name="adj2" fmla="val 2994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51311"/>
                </a:solidFill>
                <a:latin typeface="Times New Roman"/>
                <a:ea typeface="宋体"/>
              </a:rPr>
              <a:t>Hi,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41972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宋体"/>
              </a:rPr>
              <a:t>Say 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i!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宋体"/>
              </a:rPr>
              <a:t>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宋体"/>
              </a:rPr>
              <a:t>to your partner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3440" y="-108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Let’s ta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676520"/>
          <a:ext cx="190512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1905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438280" y="838080"/>
            <a:ext cx="2895840" cy="1143000"/>
          </a:xfrm>
          <a:prstGeom prst="wedgeEllipseCallout">
            <a:avLst>
              <a:gd name="adj1" fmla="val -77083"/>
              <a:gd name="adj2" fmla="val 88888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066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ello, Bob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781680" y="1447920"/>
          <a:ext cx="2133720" cy="20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1447920"/>
                    <a:ext cx="213372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971800" y="2514600"/>
            <a:ext cx="2895480" cy="1143000"/>
          </a:xfrm>
          <a:prstGeom prst="wedgeEllipseCallout">
            <a:avLst>
              <a:gd name="adj1" fmla="val 110856"/>
              <a:gd name="adj2" fmla="val -26111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743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ello, Hel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3886200"/>
            <a:ext cx="3885840" cy="2408400"/>
            <a:chOff x="0" y="3886200"/>
            <a:chExt cx="3885840" cy="2408400"/>
          </a:xfrm>
        </p:grpSpPr>
        <p:graphicFrame>
          <p:nvGraphicFramePr>
            <p:cNvPr id="174" name=""/>
            <p:cNvGraphicFramePr/>
            <p:nvPr/>
          </p:nvGraphicFramePr>
          <p:xfrm>
            <a:off x="0" y="3886200"/>
            <a:ext cx="3885840" cy="238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0" y="3886200"/>
                      <a:ext cx="3885840" cy="23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"/>
            <p:cNvSpPr/>
            <p:nvPr/>
          </p:nvSpPr>
          <p:spPr>
            <a:xfrm>
              <a:off x="949680" y="58957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7051c"/>
                  </a:solidFill>
                  <a:latin typeface="Times New Roman"/>
                  <a:ea typeface="宋体"/>
                </a:rPr>
                <a:t>Bo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4160" y="5808240"/>
              <a:ext cx="120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7051c"/>
                  </a:solidFill>
                  <a:latin typeface="Times New Roman"/>
                  <a:ea typeface="宋体"/>
                </a:rPr>
                <a:t>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733920" y="4343400"/>
            <a:ext cx="4343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:  Good morning , T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: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4880" y="487692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1c36"/>
                </a:solidFill>
                <a:latin typeface="Times New Roman"/>
                <a:ea typeface="宋体"/>
              </a:rPr>
              <a:t>Good morning,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8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宋体"/>
              </a:rPr>
              <a:t>  </a:t>
            </a:r>
            <a:r>
              <a:rPr b="0" lang="en-US" sz="3600" spc="-1" strike="noStrike" u="sng">
                <a:solidFill>
                  <a:srgbClr val="339933"/>
                </a:solidFill>
                <a:uFillTx/>
                <a:latin typeface="Arial"/>
                <a:ea typeface="宋体"/>
              </a:rPr>
              <a:t>Can you answer my questions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830592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1.  </a:t>
            </a:r>
            <a:r>
              <a:rPr b="1" lang="en-US" sz="2800" spc="-1" strike="noStrike" u="sng">
                <a:solidFill>
                  <a:srgbClr val="339933"/>
                </a:solidFill>
                <a:uFillTx/>
                <a:latin typeface="Arial"/>
                <a:ea typeface="宋体"/>
              </a:rPr>
              <a:t>What’s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 your English name?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My  English </a:t>
            </a:r>
            <a:r>
              <a:rPr b="1" lang="en-US" sz="2800" spc="-1" strike="noStrike" u="sng">
                <a:solidFill>
                  <a:srgbClr val="339933"/>
                </a:solidFill>
                <a:uFillTx/>
                <a:latin typeface="Arial"/>
                <a:ea typeface="宋体"/>
              </a:rPr>
              <a:t>name’s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  Helen !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I’m Helen!)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2.  Good morning,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Helen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!</a:t>
            </a:r>
            <a:endParaRPr b="0" lang="en-US" sz="28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宋体"/>
              </a:rPr>
              <a:t>Good morning, Miss Xu!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14972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10c98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410c98"/>
                </a:solidFill>
                <a:latin typeface="Times New Roman"/>
                <a:ea typeface="宋体"/>
              </a:rPr>
              <a:t>3.  Hello, </a:t>
            </a:r>
            <a:r>
              <a:rPr b="1" lang="en-US" sz="2800" spc="-1" strike="noStrike">
                <a:solidFill>
                  <a:srgbClr val="b17a21"/>
                </a:solidFill>
                <a:latin typeface="Times New Roman"/>
                <a:ea typeface="宋体"/>
              </a:rPr>
              <a:t>Frank</a:t>
            </a:r>
            <a:r>
              <a:rPr b="1" lang="en-US" sz="2800" spc="-1" strike="noStrike">
                <a:solidFill>
                  <a:srgbClr val="410c98"/>
                </a:solidFill>
                <a:latin typeface="Times New Roman"/>
                <a:ea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Hello, Miss X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508464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10c98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410c98"/>
                </a:solidFill>
                <a:latin typeface="Times New Roman"/>
                <a:ea typeface="宋体"/>
              </a:rPr>
              <a:t>4. Hi, </a:t>
            </a:r>
            <a:r>
              <a:rPr b="1" lang="en-US" sz="2800" spc="-1" strike="noStrike">
                <a:solidFill>
                  <a:srgbClr val="b17a21"/>
                </a:solidFill>
                <a:latin typeface="Times New Roman"/>
                <a:ea typeface="宋体"/>
              </a:rPr>
              <a:t>Cindy</a:t>
            </a:r>
            <a:r>
              <a:rPr b="1" lang="en-US" sz="2800" spc="-1" strike="noStrike">
                <a:solidFill>
                  <a:srgbClr val="410c98"/>
                </a:solidFill>
                <a:latin typeface="Times New Roman"/>
                <a:ea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Hi, Miss Xu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2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914400"/>
          <a:ext cx="2743200" cy="21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7432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819520" y="838080"/>
            <a:ext cx="4952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A:  </a:t>
            </a:r>
            <a:r>
              <a:rPr b="0" lang="en-US" sz="2800" spc="-1" strike="noStrike" u="sng">
                <a:solidFill>
                  <a:srgbClr val="151311"/>
                </a:solidFill>
                <a:uFillTx/>
                <a:latin typeface="Times New Roman"/>
                <a:ea typeface="宋体"/>
              </a:rPr>
              <a:t>Good morning</a:t>
            </a:r>
            <a:r>
              <a:rPr b="0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,  I’m </a:t>
            </a:r>
            <a:r>
              <a:rPr b="0" i="1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Jim</a:t>
            </a:r>
            <a:r>
              <a:rPr b="0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B: 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</a:rPr>
              <a:t>Good morning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,  I’m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Cindy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A: nice to meet you ,</a:t>
            </a:r>
            <a:r>
              <a:rPr b="0" i="1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Cindy</a:t>
            </a:r>
            <a:r>
              <a:rPr b="0" lang="en-US" sz="2800" spc="-1" strike="noStrike">
                <a:solidFill>
                  <a:srgbClr val="151311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B: Nice to meet you ,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Jim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4114800"/>
            <a:ext cx="3047760" cy="2895120"/>
            <a:chOff x="0" y="4114800"/>
            <a:chExt cx="3047760" cy="2895120"/>
          </a:xfrm>
        </p:grpSpPr>
        <p:graphicFrame>
          <p:nvGraphicFramePr>
            <p:cNvPr id="188" name=""/>
            <p:cNvGraphicFramePr/>
            <p:nvPr/>
          </p:nvGraphicFramePr>
          <p:xfrm>
            <a:off x="0" y="4886640"/>
            <a:ext cx="3047760" cy="2123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886640"/>
                      <a:ext cx="3047760" cy="21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>
              <a:off x="1142640" y="4114800"/>
              <a:ext cx="1047600" cy="96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4320" y="4886640"/>
              <a:ext cx="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99800" y="45972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2640" y="459720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19280" y="4597200"/>
              <a:ext cx="285480" cy="96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428480" y="4597200"/>
              <a:ext cx="19224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4320" y="4114800"/>
              <a:ext cx="0" cy="192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0" y="3581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645"/>
                </a:solidFill>
                <a:latin typeface="华文新魏"/>
                <a:ea typeface="华文新魏"/>
              </a:rPr>
              <a:t>Make the dialo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352680" y="3657600"/>
            <a:ext cx="2590560" cy="3200040"/>
            <a:chOff x="3352680" y="3657600"/>
            <a:chExt cx="2590560" cy="3200040"/>
          </a:xfrm>
        </p:grpSpPr>
        <p:graphicFrame>
          <p:nvGraphicFramePr>
            <p:cNvPr id="199" name=""/>
            <p:cNvGraphicFramePr/>
            <p:nvPr/>
          </p:nvGraphicFramePr>
          <p:xfrm>
            <a:off x="3352680" y="4876920"/>
            <a:ext cx="2590560" cy="1980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52680" y="4876920"/>
                      <a:ext cx="2590560" cy="198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1" name=""/>
            <p:cNvGrpSpPr/>
            <p:nvPr/>
          </p:nvGrpSpPr>
          <p:grpSpPr>
            <a:xfrm>
              <a:off x="4081320" y="3657600"/>
              <a:ext cx="1051920" cy="1044360"/>
              <a:chOff x="4081320" y="3657600"/>
              <a:chExt cx="1051920" cy="1044360"/>
            </a:xfrm>
          </p:grpSpPr>
          <p:sp>
            <p:nvSpPr>
              <p:cNvPr id="202" name=""/>
              <p:cNvSpPr/>
              <p:nvPr/>
            </p:nvSpPr>
            <p:spPr>
              <a:xfrm>
                <a:off x="4081320" y="3657600"/>
                <a:ext cx="1051920" cy="1044360"/>
              </a:xfrm>
              <a:prstGeom prst="ellipse">
                <a:avLst/>
              </a:prstGeom>
              <a:solidFill>
                <a:srgbClr val="bbe0e3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04960" y="4005360"/>
                <a:ext cx="242640" cy="261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5960" y="3831480"/>
                <a:ext cx="161640" cy="4348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81320" y="4179600"/>
                <a:ext cx="1620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71600" y="4179600"/>
                <a:ext cx="1616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47960" y="3657600"/>
                <a:ext cx="0" cy="1738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66600" y="4527720"/>
                <a:ext cx="0" cy="1742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09" name=""/>
          <p:cNvGraphicFramePr/>
          <p:nvPr/>
        </p:nvGraphicFramePr>
        <p:xfrm>
          <a:off x="6172200" y="4343400"/>
          <a:ext cx="2971800" cy="25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4343400"/>
                    <a:ext cx="2971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  <p:sndAc>
      <p:stSnd>
        <p:snd r:embed="rId10" name="chimes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52280" y="1905120"/>
          <a:ext cx="19051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1905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09480" y="4114800"/>
          <a:ext cx="247680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4114800"/>
                    <a:ext cx="24768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057400" y="1981080"/>
            <a:ext cx="487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.A: Nice to mee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: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4267080"/>
            <a:ext cx="533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2.A:  ____________ , Mr W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B: _____________ ,  J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5146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Nice to meet you,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267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Good 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8769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Good 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6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1523880"/>
            <a:ext cx="3200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aftern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7524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a72f"/>
                </a:solidFill>
                <a:latin typeface="华文新魏"/>
                <a:ea typeface="华文新魏"/>
              </a:rPr>
              <a:t>Match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038120" y="25909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晚间告别的用语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晚安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!)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89880" y="3581280"/>
            <a:ext cx="21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凌晨至上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47400" y="4572000"/>
            <a:ext cx="18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81c36"/>
                </a:solidFill>
                <a:latin typeface="Times New Roman"/>
                <a:ea typeface="宋体"/>
              </a:rPr>
              <a:t>下午</a:t>
            </a:r>
            <a:r>
              <a:rPr b="1" lang="en-US" sz="2800" spc="-1" strike="noStrike">
                <a:solidFill>
                  <a:srgbClr val="881c36"/>
                </a:solidFill>
                <a:latin typeface="Times New Roman"/>
                <a:ea typeface="宋体"/>
              </a:rPr>
              <a:t>4-5</a:t>
            </a:r>
            <a:r>
              <a:rPr b="1" lang="zh-CN" sz="2800" spc="-1" strike="noStrike">
                <a:solidFill>
                  <a:srgbClr val="881c36"/>
                </a:solidFill>
                <a:latin typeface="Times New Roman"/>
                <a:ea typeface="宋体"/>
              </a:rPr>
              <a:t>点之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8320" y="556272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太阳落山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黄昏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到入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2895480"/>
            <a:ext cx="114300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3886200"/>
            <a:ext cx="106668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4952880"/>
            <a:ext cx="76212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971800" y="3200040"/>
            <a:ext cx="1371600" cy="259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87280" y="177336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od morning /afternoon /even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于比较正       式客气的场合，双方都应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morning /afternoon /evening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morn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 Zha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早晨好，赵老师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morn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Wa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早晨好，王校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1916280"/>
            <a:ext cx="7129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Good morning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3640" y="198900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rn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于比较熟悉的朋友之间或比较繁忙的情况下。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lo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最广泛、最简单的打招呼语，显得亲切自然。例如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你好，凯特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 Le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你好，李雷。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现代英语中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得更多，显得更随和。例如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 Meime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你好，韩梅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你好，露西。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4114800"/>
            <a:ext cx="815328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14716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5228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cc00"/>
                </a:solidFill>
                <a:uFillTx/>
                <a:latin typeface="Arial Black"/>
                <a:ea typeface="宋体"/>
              </a:rPr>
              <a:t>Today’s 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514600"/>
            <a:ext cx="78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复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 so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并规范抄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字母的大      小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6360" y="4869000"/>
            <a:ext cx="53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利用本节课所学的交际用语与同伴交际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79640" y="1484280"/>
            <a:ext cx="568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eriod1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1"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9933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339933"/>
              </a:solidFill>
              <a:latin typeface="Arial"/>
              <a:ea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595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595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        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A  B  C  D  E  F  G 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     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H   I   J  K  L  M  N 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     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O  P  Q  R  S  T  U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     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V  W  X  Y  Z  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Now you know your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ABC ,                       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                  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宋体"/>
              </a:rPr>
              <a:t>everybody sing with me</a:t>
            </a:r>
            <a:endParaRPr b="0" lang="en-US" sz="36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640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Read after me!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跟我读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!)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A  B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  D  E  F  G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H   I   J  K  L  M  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O  P  Q     R  S   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U  V  W    X   Y   Z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33"/>
                </a:solidFill>
                <a:uFillTx/>
                <a:latin typeface="Arial"/>
                <a:ea typeface="宋体"/>
              </a:rPr>
              <a:t>Spell and write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000" y="1828800"/>
            <a:ext cx="8474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Aa  Bb  Cc  D d  E e  Ff</a:t>
            </a:r>
            <a:r>
              <a:rPr b="1" lang="en-US" sz="4000" spc="-1" strike="noStrike">
                <a:solidFill>
                  <a:srgbClr val="1c0181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G g  H h 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J j  Kk  L l  Mm  Nn  O o  Pp  Q q  R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Ss  T t  U u  Vv  W w  Xx  Y y  Z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3520" y="2349360"/>
            <a:ext cx="7926120" cy="1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981080"/>
            <a:ext cx="7926120" cy="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133720"/>
            <a:ext cx="739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520" y="2492280"/>
            <a:ext cx="7926120" cy="22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200400"/>
            <a:ext cx="828648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520" y="3573360"/>
            <a:ext cx="8286480" cy="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3715920"/>
            <a:ext cx="828648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352680"/>
            <a:ext cx="8286480" cy="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4797000"/>
            <a:ext cx="756288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9480" y="5013360"/>
            <a:ext cx="75628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572000"/>
            <a:ext cx="756288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419720"/>
            <a:ext cx="756288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94520" y="836640"/>
            <a:ext cx="69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Fill in the missing let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653000"/>
            <a:ext cx="792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653000"/>
            <a:ext cx="865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4653000"/>
            <a:ext cx="863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4653000"/>
            <a:ext cx="863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4653000"/>
            <a:ext cx="865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653000"/>
            <a:ext cx="863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91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653000"/>
            <a:ext cx="863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4653000"/>
            <a:ext cx="863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h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191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33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33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3357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191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191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8840" y="35701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191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3080" y="1916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3284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284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284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7:29:57Z</dcterms:created>
  <dc:creator>User</dc:creator>
  <dc:description/>
  <dc:language>en-US</dc:language>
  <cp:lastModifiedBy>LENOVO</cp:lastModifiedBy>
  <dcterms:modified xsi:type="dcterms:W3CDTF">2010-06-13T05:04:02Z</dcterms:modified>
  <cp:revision>9</cp:revision>
  <dc:subject/>
  <dc:title>幻灯片 1</dc:title>
</cp:coreProperties>
</file>